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72288" cy="9655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AC54-8FE1-42BE-A4B5-7250D649D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6845-269F-4E43-9716-06491F4C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5488-4DD2-48B1-B194-617425469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FB98-77D6-4798-B8F5-A456BD2E1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6566-B40F-4EE8-9E81-D18E7D0F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F930-8D44-4917-8D15-7DF84435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DBE8-E0CC-4EF7-B01C-72D45365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1405-E6A4-44C8-B4A2-6D00184A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C416-35DA-4559-9B8A-E900FAFB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80BC-6C17-4D85-844C-4B711B22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2A2D-4EB4-49B0-AA29-871AF025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714F-864E-425D-9DF2-6ADC00E3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3E09-3CAC-4D28-A9DA-539186D52A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mailto:bolsa.familia@mds.gov.br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642160" cy="53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A Gestão dos Benefícios de Transferência de Renda com Condicionalidades  na perspectiva de fortalecimento do SUAS</a:t>
            </a:r>
            <a:br>
              <a:rPr sz="2800"/>
            </a:br>
            <a:br>
              <a:rPr sz="2800"/>
            </a:br>
            <a:r>
              <a:rPr b="1" lang="pt-BR" sz="1800" spc="-1" strike="noStrike">
                <a:solidFill>
                  <a:srgbClr val="4f6228"/>
                </a:solidFill>
                <a:latin typeface="Calibri"/>
              </a:rPr>
              <a:t>Daniel Ximenes</a:t>
            </a:r>
            <a:br>
              <a:rPr sz="1800"/>
            </a:br>
            <a:r>
              <a:rPr b="1" lang="pt-BR" sz="1800" spc="-1" strike="noStrike">
                <a:solidFill>
                  <a:srgbClr val="4f6228"/>
                </a:solidFill>
                <a:latin typeface="Calibri"/>
              </a:rPr>
              <a:t>Diretor do Departamento de Condicionalidades (SENARC/MDS)</a:t>
            </a:r>
            <a:br>
              <a:rPr sz="1800"/>
            </a:br>
            <a:r>
              <a:rPr b="1" lang="pt-BR" sz="1800" spc="-1" strike="noStrike">
                <a:solidFill>
                  <a:srgbClr val="4f6228"/>
                </a:solidFill>
                <a:latin typeface="Calibri"/>
              </a:rPr>
              <a:t>Palmas, 9/10/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250920" y="907920"/>
            <a:ext cx="869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Benefícios Socia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84200" y="2276640"/>
          <a:ext cx="8229600" cy="3936960"/>
        </p:xfrm>
        <a:graphic>
          <a:graphicData uri="http://schemas.openxmlformats.org/drawingml/2006/table">
            <a:tbl>
              <a:tblPr/>
              <a:tblGrid>
                <a:gridCol w="1128600"/>
                <a:gridCol w="809640"/>
                <a:gridCol w="6291360"/>
              </a:tblGrid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efíc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g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</a:tr>
              <a:tr h="19368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ás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7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go às famílias em situação de extrema pobreza (renda mensal per capita menor ou igual a R$ 70,00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51192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á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32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go às famílias em situação de pobreza e extrema pobreza que tenham gestantes, nutrizes, crianças ou adolescentes de 0 a 15 anos de idade;</a:t>
                      </a:r>
                      <a:br>
                        <a:rPr sz="1100"/>
                      </a:b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mite de cinco benefícios por famíli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84744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nefício Variável à Gestante (BVG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32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go a todas as famílias já beneficiárias do PBF que tenham gestantes em sua composição;</a:t>
                      </a:r>
                      <a:br>
                        <a:rPr sz="1100"/>
                      </a:b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gamento de nove parcelas consecutivas, a contar da data de concessão do benefício, desde que a gestação tenha sido identificada no sistema até o nono mês de gestação;</a:t>
                      </a:r>
                      <a:br>
                        <a:rPr sz="1100"/>
                      </a:b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família precisa ser identificada no Sistema Bolsa Família de Saúde e no Sistema de Condicionalidades (SICON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67932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nefício Variável à Nutriz (BV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32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go a todas as famílias beneficiárias do PBF que tenham crianças com idade entre 0 e 6 meses em sua composição;</a:t>
                      </a:r>
                      <a:br>
                        <a:rPr sz="1100"/>
                      </a:b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gamento de seis parcelas consecutivas, a contar da data de concessão do benefício, desde que a criança tenha sido identificada no Cadastro Único até o sexto mês de vid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84744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nefício Variável Vinculado ao Adolescente (BV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38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go a todas as famílias beneficiárias do PBF que tenham adolescentes de 16 e 17 anos que estejam frequentando a escola;</a:t>
                      </a:r>
                      <a:br>
                        <a:rPr sz="1100"/>
                      </a:b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mite de até dois benefícios por família;</a:t>
                      </a:r>
                      <a:br>
                        <a:rPr sz="1100"/>
                      </a:b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dolescente beneficiário do BVJ, ao completar 18 anos, continua recebendo regularmente as parcelas do benefício até dezembro do ano de seu aniversári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63432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nefício para Superação da Extrema Pobreza (BS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o a Cas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go a todas as famílias beneficiárias do PBF que, mesmo recebendo outros benefícios do Programa, permaneçam em situação de extrema pobrez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836640"/>
            <a:ext cx="864216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  <a:ea typeface="Arial"/>
              </a:rPr>
              <a:t>PBF – Informações Gerais - Dados 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CaixaDeTexto 1"/>
          <p:cNvSpPr/>
          <p:nvPr/>
        </p:nvSpPr>
        <p:spPr>
          <a:xfrm>
            <a:off x="-15840" y="1916280"/>
            <a:ext cx="9144000" cy="46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Famílias atendidas – set/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BRASIL: 13.841.665               Benefício Médio: R$ 152,3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TOCANTINS:  137.164           Benefício Médio: R$ 159,6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Acompanhamento de Educação - (6 a 17 anos)/ jun-jul/13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BRASIL - 86,1% -  15,2 milhõ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TOCANTINS – 89,4% - 166.785 m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companhamento de Saúde - famílias/ jan-jun/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BRASIL - 73,6% - 8,4 milhõ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TOCANTINS– 82,74% - 101.140m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846000"/>
            <a:ext cx="864216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  <a:ea typeface="Arial"/>
              </a:rPr>
              <a:t>O Cadastro Único para Programas Socia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CaixaDeTexto 1"/>
          <p:cNvSpPr/>
          <p:nvPr/>
        </p:nvSpPr>
        <p:spPr>
          <a:xfrm>
            <a:off x="468360" y="2133720"/>
            <a:ext cx="8316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f6228"/>
                </a:solidFill>
                <a:latin typeface="Calibri"/>
              </a:rPr>
              <a:t>Conhecer para inclui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É um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instrumento de identificação e caracterização socioeconômica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das famílias brasileiras de baixa rend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Renda mensal igual ou inferior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a ½ salário mínimo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por pessoa (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R$ 339,00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) o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Renda familiar mensal de até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três salários mínim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Famílias com renda maior podem ser cadastradas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e a inclusão estiver vinculada à seleção de programas sociais implementados em nível federal, estadual ou municipa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846000"/>
            <a:ext cx="864216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  <a:ea typeface="Arial"/>
              </a:rPr>
              <a:t>O Cadastro Único para Programas Sociais</a:t>
            </a:r>
            <a:br>
              <a:rPr sz="2800"/>
            </a:br>
            <a:r>
              <a:rPr b="1" lang="pt-BR" sz="2800" spc="-1" strike="noStrike">
                <a:solidFill>
                  <a:srgbClr val="4f6228"/>
                </a:solidFill>
                <a:latin typeface="Calibri"/>
                <a:ea typeface="Arial"/>
              </a:rPr>
              <a:t>(continuaçã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CaixaDeTexto 1"/>
          <p:cNvSpPr/>
          <p:nvPr/>
        </p:nvSpPr>
        <p:spPr>
          <a:xfrm>
            <a:off x="468360" y="2133720"/>
            <a:ext cx="8316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f6228"/>
                </a:solidFill>
                <a:latin typeface="Calibri"/>
              </a:rPr>
              <a:t>Conhecer para inclui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eve ser obrigatoriamente utilizado para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seleção  de beneficiários e integração de programas sociais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o Governo Federal voltados ao atendimento desse público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seleção dos beneficiários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é realizada de forma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automatizada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e considera os requisitos e prioridades previstos em le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846000"/>
            <a:ext cx="864216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  <a:ea typeface="Arial"/>
              </a:rPr>
              <a:t>Gestão do PBF e Cadastro Único</a:t>
            </a:r>
            <a:br>
              <a:rPr sz="2800"/>
            </a:br>
            <a:r>
              <a:rPr b="1" lang="pt-BR" sz="2800" spc="-1" strike="noStrike">
                <a:solidFill>
                  <a:srgbClr val="4f6228"/>
                </a:solidFill>
                <a:latin typeface="Calibri"/>
                <a:ea typeface="Arial"/>
              </a:rPr>
              <a:t>(continuaçã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CaixaDeTexto 1"/>
          <p:cNvSpPr/>
          <p:nvPr/>
        </p:nvSpPr>
        <p:spPr>
          <a:xfrm>
            <a:off x="250920" y="2136600"/>
            <a:ext cx="871380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f6228"/>
                </a:solidFill>
                <a:latin typeface="Calibri"/>
              </a:rPr>
              <a:t>Arranjo de gestão descentralizada e compartilh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overno Federal (Senarc/MD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): responsável pelas diretrizes, regulamentos, estratégias mais amplas de atuaçã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Estados: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restação de apoio estratégico e técnico aos municípi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Municípios: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tuação direta na implementação do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PBF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e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adastro Único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, realizando busca ativa, cadastramento, gestão de benefícios e outras informações, zelando pela qualidade dos d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846000"/>
            <a:ext cx="864216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  <a:ea typeface="Arial"/>
              </a:rPr>
              <a:t>Gestão do PBF e Cadastro Ún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CaixaDeTexto 1"/>
          <p:cNvSpPr/>
          <p:nvPr/>
        </p:nvSpPr>
        <p:spPr>
          <a:xfrm>
            <a:off x="250920" y="2136600"/>
            <a:ext cx="8713800" cy="37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f6228"/>
                </a:solidFill>
                <a:latin typeface="Calibri"/>
              </a:rPr>
              <a:t>Arranjo de gestão descentralizada e compartilh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Intersetorialidade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: saúde e educação, políticas de promoção (direitos humanos, grupos populacionais tradicionais e específicos), mais recentemente outras áreas como trabalho e emprego, previdência, meio ambiente, integração nacional, et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aixa Econômica Federal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: agente operador do PBF e do Cadastro Único. Responsável pelos sistemas, pelo treinamento de operadores e atendimento a municípi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34272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836640"/>
            <a:ext cx="864216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  <a:ea typeface="ＭＳ Ｐゴシック"/>
              </a:rPr>
              <a:t>Índice de Gestão Descentralizada – IGD/PB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CaixaDeTexto 1"/>
          <p:cNvSpPr/>
          <p:nvPr/>
        </p:nvSpPr>
        <p:spPr>
          <a:xfrm>
            <a:off x="250920" y="2133720"/>
            <a:ext cx="8578800" cy="23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f6228"/>
                </a:solidFill>
                <a:latin typeface="Calibri"/>
              </a:rPr>
              <a:t>Apoio financeiro para a gestão dos municípios e est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Índice de Gestão Descentralizada: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ostra a qualidade da gestão descentralizada do PBF, além de refletir os compromissos assumidos pelos estados e municípios na sua adesão ao Programa, como a gestão do Cadastro Único e das condicionalidades. O índice varia entre zero e 1. Quanto mais próximo de 1, melhor a avaliação da gestão desses process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920" y="836640"/>
            <a:ext cx="864216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  <a:ea typeface="ＭＳ Ｐゴシック"/>
              </a:rPr>
              <a:t>Índice de Gestão Descentralizada – IGD/PBF</a:t>
            </a:r>
            <a:br>
              <a:rPr sz="2800"/>
            </a:br>
            <a:r>
              <a:rPr b="1" lang="pt-BR" sz="2800" spc="-1" strike="noStrike">
                <a:solidFill>
                  <a:srgbClr val="4f6228"/>
                </a:solidFill>
                <a:latin typeface="Calibri"/>
                <a:ea typeface="ＭＳ Ｐゴシック"/>
              </a:rPr>
              <a:t>(continuaçã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CaixaDeTexto 1"/>
          <p:cNvSpPr/>
          <p:nvPr/>
        </p:nvSpPr>
        <p:spPr>
          <a:xfrm>
            <a:off x="250920" y="2133720"/>
            <a:ext cx="857880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f6228"/>
                </a:solidFill>
                <a:latin typeface="Calibri"/>
              </a:rPr>
              <a:t>Apoio financeiro para a gestão dos municípios e est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omponentes principai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28880" indent="-28584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Cadastro: taxa de cobertura e taxa de atualizaçã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28880" indent="-28584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Condicionalidades: acompanhamento de saúde e de educaçã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28880" indent="-28584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Há outros fatores que contam no cálculo e alguns impeditivos do recebimento dos recurs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om base no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IGD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, o Governo Federal repassa mensalmente recursos aos municípios, estados e DF para execução de suas ativida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CaixaDeTexto 1"/>
          <p:cNvSpPr/>
          <p:nvPr/>
        </p:nvSpPr>
        <p:spPr>
          <a:xfrm>
            <a:off x="179280" y="2133720"/>
            <a:ext cx="871380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f6228"/>
                </a:solidFill>
                <a:latin typeface="Calibri"/>
              </a:rPr>
              <a:t>Com o Plano BSM, o Bolsa Família se fortaleceu ainda ma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Fortalecimento do Cadastro Único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omo ferramenta de identificação de público-alvo das ações do B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stratégia de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Busca Ativa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: foram incluídas no Cadastro Único cerca de 1 milhão de famílias extremamente pob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Aumento de benefícios variáveis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or família: aumentou-se de 3 para 5 benefícios variáveis em uma família, o que levou à concessão de cerca de 1,3 milhão de novos benefíci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250920" y="846000"/>
            <a:ext cx="864216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Bolsa Família, Cadastro Único e Brasil sem Misé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CaixaDeTexto 1"/>
          <p:cNvSpPr/>
          <p:nvPr/>
        </p:nvSpPr>
        <p:spPr>
          <a:xfrm>
            <a:off x="179280" y="2133720"/>
            <a:ext cx="871380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f6228"/>
                </a:solidFill>
                <a:latin typeface="Calibri"/>
              </a:rPr>
              <a:t>Com o Plano BSM, o Bolsa Família se fortaleceu ainda ma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mplementação do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Retorno Garantido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:  incentivo às famílias que não necessitem mais do benefício a solicitar o Desligamento Voluntário.  As famílias que se desligarem voluntariamente e voltarem a necessitar novamente do benefício do PBF têm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arantido o direito de retornar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mediatamente ao Programa no prazo de 36 meses a partir do desligamen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93 mil famílias em todo o país (1,4 mil em Tocanti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50920" y="846000"/>
            <a:ext cx="864216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Bolsa Família, Cadastro Único e Brasil sem Misé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(continuaçã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50920" y="2133720"/>
            <a:ext cx="86421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onjunto de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estratégias públicas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que garante o cumprimento dos direitos sociais constantes da Constituição, assegurando a todo brasileiro ou brasileira o livre acesso aos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serviço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programa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projeto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e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benefício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sem que se tenha que pagar por ele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 Bolsa Família é um programa, com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interface com diferentes políticas pública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. A dimensão da transferência de renda, embora seja o componente mais visível, não deve ser concebido como um fim em si. A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transferência de renda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é uma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estratégia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que se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articula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 um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onjunto de política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, que permitam o enfrentamento consequente da pobreza e da desigualda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ítulo 1"/>
          <p:cNvSpPr/>
          <p:nvPr/>
        </p:nvSpPr>
        <p:spPr>
          <a:xfrm>
            <a:off x="250920" y="76500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Proteção Social não contributiva e o PB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8920" y="836640"/>
            <a:ext cx="87138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  <a:ea typeface="Arial"/>
              </a:rPr>
              <a:t>Bolsa Família, Cadastro Único e Brasil sem Misé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CaixaDeTexto 1"/>
          <p:cNvSpPr/>
          <p:nvPr/>
        </p:nvSpPr>
        <p:spPr>
          <a:xfrm>
            <a:off x="614520" y="2133720"/>
            <a:ext cx="824544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f6228"/>
                </a:solidFill>
                <a:latin typeface="Calibri"/>
              </a:rPr>
              <a:t>Com o Plano BSM, o Bolsa Família se fortaleceu ainda ma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8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Revisão da estimativa de pobreza e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xpansão da quantidade de famílias atendidas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pelo Programa: aumento de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12,9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para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13,8</a:t>
            </a:r>
            <a:r>
              <a:rPr b="0" lang="pt-BR" sz="2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milhões de famílias estimadas como público do PB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8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Reajuste no valor dos benefícios e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aumento no valor do benefício médi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8920" y="836640"/>
            <a:ext cx="87138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  <a:ea typeface="Arial"/>
              </a:rPr>
              <a:t>Bolsa Família, Cadastro Único e Brasil sem Miséria</a:t>
            </a:r>
            <a:br>
              <a:rPr sz="2800"/>
            </a:br>
            <a:r>
              <a:rPr b="1" lang="pt-BR" sz="2800" spc="-1" strike="noStrike">
                <a:solidFill>
                  <a:srgbClr val="4f6228"/>
                </a:solidFill>
                <a:latin typeface="Calibri"/>
                <a:ea typeface="Arial"/>
              </a:rPr>
              <a:t>(continuaçã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CaixaDeTexto 1"/>
          <p:cNvSpPr/>
          <p:nvPr/>
        </p:nvSpPr>
        <p:spPr>
          <a:xfrm>
            <a:off x="614520" y="2133720"/>
            <a:ext cx="824544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f6228"/>
                </a:solidFill>
                <a:latin typeface="Calibri"/>
              </a:rPr>
              <a:t>Com o Plano BSM, o Bolsa Família se fortaleceu ainda ma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Ampliação, em 82%,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dos recursos repassados aos municípios e estados, conforme seu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Índice de Gestão Descentralizada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(IGD). Hoje, são destinados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R$ 560 milhões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anuais para apoio à gestão descentraliz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846000"/>
            <a:ext cx="87138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  <a:ea typeface="Arial"/>
              </a:rPr>
              <a:t>Bolsa Família, Cadastro Único e Brasil sem Misé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CaixaDeTexto 1"/>
          <p:cNvSpPr/>
          <p:nvPr/>
        </p:nvSpPr>
        <p:spPr>
          <a:xfrm>
            <a:off x="250920" y="2133720"/>
            <a:ext cx="8589960" cy="39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f6228"/>
                </a:solidFill>
                <a:latin typeface="Calibri"/>
              </a:rPr>
              <a:t>Com o Plano BSM, o Bolsa Família se fortaleceu ainda ma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riação do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Benefício de Superação da Extrema Pobreza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, com foco na erradicação da extrema pobreza em famílias que, mesmo após o recebimento dos demais benefícios, se mantenham abaixo da linha de extrema pobreza  - seu valor equivale ao </a:t>
            </a: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necessário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ara superar os R$ 70 por pesso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primoramento do acompanhamento de condicionalidades e ampliação da importância do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acompanhamento das famílias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m situação de descumprimento pelos serviços socioassistencia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Articulação com o Mais Educação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, no sentido de priorizar a implantação da educação integral em escolas onde a maioria dos alunos é beneficiária do PB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8920" y="836640"/>
            <a:ext cx="87138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  <a:ea typeface="Arial"/>
              </a:rPr>
              <a:t>Principais resultado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CaixaDeTexto 1"/>
          <p:cNvSpPr/>
          <p:nvPr/>
        </p:nvSpPr>
        <p:spPr>
          <a:xfrm>
            <a:off x="600120" y="2127240"/>
            <a:ext cx="8191440" cy="35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f6228"/>
                </a:solidFill>
                <a:latin typeface="Calibri"/>
              </a:rPr>
              <a:t>Diferentes pesquisas mostram que o Brasil está reduzindo a pobreza e a desiguald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PBF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é um dos principais responsáveis pela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redução da pobreza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e, em especial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, da extrema pobrez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iferentes pesquisas estimam que a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extrema pobreza seria um terço maior não fosse o PBF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. Dependendo do período considerado, o Programa colabora em torno de 16% e 20% para a queda significativa da desigualdade de rendimentos ocorrida nos últimos an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usta menos que 0,5% do PI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CaixaDeTexto 1"/>
          <p:cNvSpPr/>
          <p:nvPr/>
        </p:nvSpPr>
        <p:spPr>
          <a:xfrm>
            <a:off x="250920" y="2133720"/>
            <a:ext cx="864216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f6228"/>
                </a:solidFill>
                <a:latin typeface="Calibri"/>
              </a:rPr>
              <a:t>Os resultados do Bolsa Família vão além do alívio imediato da pobrez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sultados recentes da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segunda rodada da Avaliação de Impacto do PBF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, realizada com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11 mil famílias beneficiárias e não beneficiária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, abre espaço para a discussão de outros benefícios que o Programa traz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Melhoria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nos cuidados de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pré-natal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, no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aleitamento materno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, na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vacinação das criança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nas taxas de aprovação escolar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e no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poder de decisão das mulheres — seja na compra de bens duráveis, seja na utilização de métodos de contracepçã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79280" y="836640"/>
            <a:ext cx="87138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Principais resultados</a:t>
            </a:r>
            <a:br>
              <a:rPr sz="2800"/>
            </a:b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(continuaçã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CaixaDeTexto 1"/>
          <p:cNvSpPr/>
          <p:nvPr/>
        </p:nvSpPr>
        <p:spPr>
          <a:xfrm>
            <a:off x="250920" y="2133720"/>
            <a:ext cx="8642160" cy="33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f6228"/>
                </a:solidFill>
                <a:latin typeface="Calibri"/>
              </a:rPr>
              <a:t>Os resultados do Bolsa Família vão além do alívio imediato da pobrez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f6228"/>
                </a:solidFill>
                <a:latin typeface="Calibri"/>
              </a:rPr>
              <a:t>(Continuaçã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Redução do trabalho infantil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, postergando a entrada dos jovens no mercado de trabalh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 Programa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não gera "acomodação" dos beneficiários adulto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, pois sua participação no mercado de trabalho ocorre em níveis semelhantes aos dos não beneficiári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79280" y="836640"/>
            <a:ext cx="87138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Principais resultados</a:t>
            </a:r>
            <a:br>
              <a:rPr sz="2800"/>
            </a:b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(continuaçã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CaixaDeTexto 1"/>
          <p:cNvSpPr/>
          <p:nvPr/>
        </p:nvSpPr>
        <p:spPr>
          <a:xfrm>
            <a:off x="250920" y="2133720"/>
            <a:ext cx="8642160" cy="43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f6228"/>
                </a:solidFill>
                <a:latin typeface="Calibri"/>
              </a:rPr>
              <a:t>Os resultados do Bolsa Família evidenciam o reforço do acesso aos serviços sociais básicos por meio do acompanhamento das condicionalida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Na saúde –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dução da mortalidade infantil em 19,4% (The Lancet, 201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Na educação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– Reforço da agenda educacional – 2012 (Educacenso e Presenç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2888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Ensino Fundamental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TX Aprovação de beneficiários PBF – 85,2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TX Aprovação Demais Rede Pública – 89,9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TX Abandono de beneficiários PBF – 2,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TX Abandono Demais Rede Pública – 3,3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79280" y="836640"/>
            <a:ext cx="87138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Principais resultados</a:t>
            </a:r>
            <a:br>
              <a:rPr sz="2800"/>
            </a:b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(continuaçã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CaixaDeTexto 1"/>
          <p:cNvSpPr/>
          <p:nvPr/>
        </p:nvSpPr>
        <p:spPr>
          <a:xfrm>
            <a:off x="250920" y="2133720"/>
            <a:ext cx="8642160" cy="36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f6228"/>
                </a:solidFill>
                <a:latin typeface="Calibri"/>
              </a:rPr>
              <a:t>Os resultados do Bolsa Família evidenciam o reforço do acesso aos serviços sociais básicos por meio do acompanhamento das condicionalidades (cont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Na educação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– Reforço da agenda educacional -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2888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Ensino Médio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TX Aprovação de beneficiários PBF – 79,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TX Aprovação Demais Rede Pública – 75,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TX Abandono de beneficiários PBF – 7,4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TX Abandono Demais Rede Pública – 11,4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79280" y="836640"/>
            <a:ext cx="87138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Principais resultados</a:t>
            </a:r>
            <a:br>
              <a:rPr sz="2800"/>
            </a:b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(continuaçã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64252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  <a:ea typeface="Arial"/>
              </a:rPr>
              <a:t>PBF e Cadastro Ún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CaixaDeTexto 1"/>
          <p:cNvSpPr/>
          <p:nvPr/>
        </p:nvSpPr>
        <p:spPr>
          <a:xfrm>
            <a:off x="395280" y="1413000"/>
            <a:ext cx="8642520" cy="46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f6228"/>
                </a:solidFill>
                <a:latin typeface="Calibri"/>
              </a:rPr>
              <a:t>Prioridades de gestão –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Revisão Cadastral de cerca de 1,5 milhões de famílias beneficiárias, até 13 de dezembro. Em Tocanti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Para facilitar a mobilização das famílias para esta atividade, a partir deste ano o MDS lhes envia cartas, informando-as sobre a necessidade e o prazo da revisão cadastr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692360" y="2492280"/>
          <a:ext cx="5560920" cy="2998800"/>
        </p:xfrm>
        <a:graphic>
          <a:graphicData uri="http://schemas.openxmlformats.org/drawingml/2006/table">
            <a:tbl>
              <a:tblPr/>
              <a:tblGrid>
                <a:gridCol w="2714400"/>
                <a:gridCol w="2805120"/>
                <a:gridCol w="41400"/>
              </a:tblGrid>
              <a:tr h="213480">
                <a:tc row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F e 10 municíp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 row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mílias da Revisão Cadastral 2013 que permanecem com os dados desatualizados em 24/08/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               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cant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                                          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24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LM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                                          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2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AGUA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                                             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URU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                                             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AISO DO TOCANT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                                              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IAT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                                             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RTO N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                                             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A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                                             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MPOS LIN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                                             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AGUAT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                                             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NTE ALTA DO BOM JES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                                             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846000"/>
            <a:ext cx="87138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  <a:ea typeface="Arial"/>
              </a:rPr>
              <a:t>Programa Bolsa Família, Cadastro Único e Intersetorialid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CaixaDeTexto 1"/>
          <p:cNvSpPr/>
          <p:nvPr/>
        </p:nvSpPr>
        <p:spPr>
          <a:xfrm>
            <a:off x="179280" y="2133720"/>
            <a:ext cx="8713800" cy="34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f6228"/>
                </a:solidFill>
                <a:latin typeface="Calibri"/>
              </a:rPr>
              <a:t>Prioridades de gestão – 2013 (continuaçã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mpliar a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estratégia de capacitação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, articulando também a formação para cadastramento e para a gestão do Cadastro Único e Bolsa Família no âmbito do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apacitaSu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iscutir a definição de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equipes de referência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o Cadastro Único e Bolsa Família, a fim de gerar complementariedade e fortalecimento no âmbito do SU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otencializar uso dos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recursos do IG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23640" y="2133360"/>
            <a:ext cx="856908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 desenho do Bolsa Família faz com que ele materialize vários princípios e objetivos que são muito valiosos para a Assistência Social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ntersetorialidad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roteção social à famíli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egurança de rend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gestão descentralizad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nclusão social; 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articipação soci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ítulo 1"/>
          <p:cNvSpPr/>
          <p:nvPr/>
        </p:nvSpPr>
        <p:spPr>
          <a:xfrm>
            <a:off x="250920" y="907920"/>
            <a:ext cx="8642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Assistência Social e o PB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8920" y="836640"/>
            <a:ext cx="868356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  <a:ea typeface="Arial"/>
              </a:rPr>
              <a:t>Programa Bolsa Família, Cadastro Único e Intersetorialid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CaixaDeTexto 1"/>
          <p:cNvSpPr/>
          <p:nvPr/>
        </p:nvSpPr>
        <p:spPr>
          <a:xfrm>
            <a:off x="250920" y="2125800"/>
            <a:ext cx="85820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f6228"/>
                </a:solidFill>
                <a:latin typeface="Calibri"/>
              </a:rPr>
              <a:t>Prioridades de gestão – 2013 (continuaçã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mpliar e aprimorar o acompanhamento  familiar com vistas a reduzir as exclusões do PBF motivadas pelo descumprimento das condicionalidad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8000" y="3716280"/>
          <a:ext cx="8785080" cy="1809720"/>
        </p:xfrm>
        <a:graphic>
          <a:graphicData uri="http://schemas.openxmlformats.org/drawingml/2006/table">
            <a:tbl>
              <a:tblPr/>
              <a:tblGrid>
                <a:gridCol w="1463760"/>
                <a:gridCol w="1465200"/>
                <a:gridCol w="1463760"/>
                <a:gridCol w="1463400"/>
                <a:gridCol w="1465560"/>
                <a:gridCol w="1463400"/>
              </a:tblGrid>
              <a:tr h="371520"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LHO/ AGOSTO DE 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TEMBRO/ OUTUBRO DE 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mílias em Fase de Suspens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mílias com registro de acompanhamento no SI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mílias em Fase de Suspens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mílias com registro de acompanhamento no SI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836640"/>
            <a:ext cx="868356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  <a:ea typeface="Arial"/>
              </a:rPr>
              <a:t>Programa Bolsa Família, Cadastro Único e Intersetorialid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CaixaDeTexto 1"/>
          <p:cNvSpPr/>
          <p:nvPr/>
        </p:nvSpPr>
        <p:spPr>
          <a:xfrm>
            <a:off x="179280" y="1916280"/>
            <a:ext cx="8685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f6228"/>
                </a:solidFill>
                <a:latin typeface="Calibri"/>
              </a:rPr>
              <a:t>Prioridades de gestão – 2013 (continuaçã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mpliar o número de alunos do Bolsa Família com acesso à educação integral, por meio do Mais Educaçã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Ampliar a utilização do Cadastro Único para o planejamento de políticas públicas de diversas áreas de municípios e est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4000" y="3429000"/>
          <a:ext cx="8540640" cy="1655640"/>
        </p:xfrm>
        <a:graphic>
          <a:graphicData uri="http://schemas.openxmlformats.org/drawingml/2006/table">
            <a:tbl>
              <a:tblPr/>
              <a:tblGrid>
                <a:gridCol w="1253880"/>
                <a:gridCol w="951120"/>
                <a:gridCol w="949320"/>
                <a:gridCol w="950760"/>
                <a:gridCol w="951120"/>
                <a:gridCol w="949320"/>
                <a:gridCol w="950760"/>
                <a:gridCol w="950760"/>
                <a:gridCol w="633600"/>
              </a:tblGrid>
              <a:tr h="37476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RRITÓ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ME 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E 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ras escol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oria PB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MPB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ras escol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oria PB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MPB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58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S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4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.1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.5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.0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.8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.9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,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57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0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,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8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5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,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58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CANT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,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6421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Articulação PBF e SUAS: ferramentas de apoio à gestão integra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8920" y="2133720"/>
            <a:ext cx="87138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ECAD - Consulta, Seleção e Extração de Informações do CadÚnico: p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rmite aos gestores municipais, estaduais, técnicos do MDS e pesquisadores gerar informações </a:t>
            </a:r>
            <a:r>
              <a:rPr b="1" i="1" lang="pt-BR" sz="2000" spc="-1" strike="noStrike">
                <a:solidFill>
                  <a:srgbClr val="000000"/>
                </a:solidFill>
                <a:latin typeface="Calibri"/>
              </a:rPr>
              <a:t>atualizada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das famílias de baixa renda que estão inscritas no CadÚnico de forma a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onhecer a realidade socioeconômica dessas famílias, trazendo informações com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todo o núcleo familiar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aracterísticas do domicílio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ormas de acesso a serviços públicos essenciais; 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ados de cada um dos componentes da famíl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920" y="831960"/>
            <a:ext cx="864216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Articulação PBF e SUAS: ferramentas de apoio à gestão integra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78920" y="2149560"/>
            <a:ext cx="8750520" cy="40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SICON - Sistema de Condicionalidades do Programa Bolsa Família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: permite a gestores e técnicos responsáveis pelo acompanhamento das condicionalidades nos estados e municípios executar ações com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onsultar famílias com descumprimentos das condicionalidade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gistrar e alterar recurso para o descumprimento quando ocorrerem erros, falhas ou problemas que ocasionem repercussão indevi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eferir ou indeferir um recurso cadastr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gistrar informações sobre o acompanhamento das famílias que tiveram descumprimento de condicionalidade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onsultar famílias em acompanhamento familiar por CR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CaixaDeTexto 1"/>
          <p:cNvSpPr/>
          <p:nvPr/>
        </p:nvSpPr>
        <p:spPr>
          <a:xfrm>
            <a:off x="863640" y="1052640"/>
            <a:ext cx="741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bolsa.familia@mds.gov.b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Arial"/>
              </a:rPr>
              <a:t>0800.70720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Arial"/>
              </a:rPr>
              <a:t>www.mds.gov.br/bolsafamilia/faleconos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Imagem 1" descr=""/>
          <p:cNvPicPr/>
          <p:nvPr/>
        </p:nvPicPr>
        <p:blipFill>
          <a:blip r:embed="rId2"/>
          <a:stretch/>
        </p:blipFill>
        <p:spPr>
          <a:xfrm>
            <a:off x="395280" y="4862520"/>
            <a:ext cx="1944720" cy="750960"/>
          </a:xfrm>
          <a:prstGeom prst="rect">
            <a:avLst/>
          </a:prstGeom>
          <a:ln w="0">
            <a:noFill/>
          </a:ln>
        </p:spPr>
      </p:pic>
      <p:pic>
        <p:nvPicPr>
          <p:cNvPr id="157" name="Imagem 2" descr=""/>
          <p:cNvPicPr/>
          <p:nvPr/>
        </p:nvPicPr>
        <p:blipFill>
          <a:blip r:embed="rId3"/>
          <a:stretch/>
        </p:blipFill>
        <p:spPr>
          <a:xfrm>
            <a:off x="2411280" y="4797360"/>
            <a:ext cx="4176720" cy="1025640"/>
          </a:xfrm>
          <a:prstGeom prst="rect">
            <a:avLst/>
          </a:prstGeom>
          <a:ln w="0">
            <a:noFill/>
          </a:ln>
        </p:spPr>
      </p:pic>
      <p:pic>
        <p:nvPicPr>
          <p:cNvPr id="158" name="Imagem 3" descr=""/>
          <p:cNvPicPr/>
          <p:nvPr/>
        </p:nvPicPr>
        <p:blipFill>
          <a:blip r:embed="rId4">
            <a:alphaModFix amt="0"/>
          </a:blip>
          <a:stretch/>
        </p:blipFill>
        <p:spPr>
          <a:xfrm>
            <a:off x="6708600" y="4797360"/>
            <a:ext cx="216720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Assistência Social e o PB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2565360"/>
            <a:ext cx="86421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 articulação dos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serviços de proteção social básica e especial às ações de transferência de renda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videncia uma integração que fortalece ambas as açõ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xemplo: o não cumprimento das condicionalidades pode indicar uma situação de risco, ou seja, estas famílias necessitam de um acompanhamento dos serviços prestados pela proteção básica e/ou especi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ítulo 1"/>
          <p:cNvSpPr/>
          <p:nvPr/>
        </p:nvSpPr>
        <p:spPr>
          <a:xfrm>
            <a:off x="250920" y="836640"/>
            <a:ext cx="8642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Programa Bolsa Famíl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tângulo de cantos arredondados 1"/>
          <p:cNvSpPr/>
          <p:nvPr/>
        </p:nvSpPr>
        <p:spPr>
          <a:xfrm>
            <a:off x="1258920" y="2205000"/>
            <a:ext cx="2160720" cy="151128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ítulo 1"/>
          <p:cNvSpPr/>
          <p:nvPr/>
        </p:nvSpPr>
        <p:spPr>
          <a:xfrm>
            <a:off x="1147680" y="2349360"/>
            <a:ext cx="2384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Tranferência condicionada de re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tângulo de cantos arredondados 7"/>
          <p:cNvSpPr/>
          <p:nvPr/>
        </p:nvSpPr>
        <p:spPr>
          <a:xfrm>
            <a:off x="5508720" y="2205000"/>
            <a:ext cx="2592360" cy="151128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ítulo 1"/>
          <p:cNvSpPr/>
          <p:nvPr/>
        </p:nvSpPr>
        <p:spPr>
          <a:xfrm>
            <a:off x="5611680" y="2349360"/>
            <a:ext cx="2384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Focaliz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Condicion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De livre utilizaçã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eta para a direita 3"/>
          <p:cNvSpPr/>
          <p:nvPr/>
        </p:nvSpPr>
        <p:spPr>
          <a:xfrm>
            <a:off x="3990960" y="2532240"/>
            <a:ext cx="1035000" cy="69048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tângulo de cantos arredondados 9"/>
          <p:cNvSpPr/>
          <p:nvPr/>
        </p:nvSpPr>
        <p:spPr>
          <a:xfrm>
            <a:off x="1258920" y="4078440"/>
            <a:ext cx="6842160" cy="1726920"/>
          </a:xfrm>
          <a:prstGeom prst="roundRect">
            <a:avLst>
              <a:gd name="adj" fmla="val 16667"/>
            </a:avLst>
          </a:prstGeom>
          <a:solidFill>
            <a:srgbClr val="4f6228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ítulo 1"/>
          <p:cNvSpPr/>
          <p:nvPr/>
        </p:nvSpPr>
        <p:spPr>
          <a:xfrm>
            <a:off x="1476360" y="4302000"/>
            <a:ext cx="6437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Alívio imediato da pobrez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Ruptura do ciclo intergeracional da pobrez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Desenvolvimento das famímil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eta para a direita 12"/>
          <p:cNvSpPr/>
          <p:nvPr/>
        </p:nvSpPr>
        <p:spPr>
          <a:xfrm rot="5400000">
            <a:off x="4127400" y="3357360"/>
            <a:ext cx="647640" cy="43200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836640"/>
            <a:ext cx="8696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PBF - Principais Característic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CaixaDeTexto 1"/>
          <p:cNvSpPr/>
          <p:nvPr/>
        </p:nvSpPr>
        <p:spPr>
          <a:xfrm>
            <a:off x="250920" y="2154240"/>
            <a:ext cx="8696160" cy="39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Programa Bolsa Família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tua com foco em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três aspectos principai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Alívio imediato da pobreza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, por meio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da transferência direta de renda às famíl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Ampliação do acesso a serviços públicos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que representam direitos básicos nas áreas de Saúde, Educação e Assistência Social, por meio das condicionalidades, contribuindo para o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rompimento do ciclo intergeracional de reprodução da pobrez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oordenação com outras ações e programas dos governo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, nas três esferas, e da sociedade, de modo a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apoiar as famílias na superação de vulnerabilidades e pobrez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Espaço Reservado para Conteúdo 2"/>
          <p:cNvSpPr/>
          <p:nvPr/>
        </p:nvSpPr>
        <p:spPr>
          <a:xfrm>
            <a:off x="250920" y="2133720"/>
            <a:ext cx="86421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Atendimento da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amília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 e não dos seus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embros isoladame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ontrapartidas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 das famílias e do governo nas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áreas de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úde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e de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ducaçã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agamento direto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à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amília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, sem intermediação de qualquer naturez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Entrega de recursos diretamente à família por intermédio de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artão magné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Benefício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referencialmente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 pago à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ul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utonomia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 da família no uso do recurso financei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250920" y="907920"/>
            <a:ext cx="8696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PBF - Principais Característic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(continuaçã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Espaço Reservado para Conteúdo 2"/>
          <p:cNvSpPr/>
          <p:nvPr/>
        </p:nvSpPr>
        <p:spPr>
          <a:xfrm>
            <a:off x="250920" y="2133720"/>
            <a:ext cx="86961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tendimento de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famílias pobre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e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extremamente pob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 fam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ília continua no Programa enquanto tiver renda abaixo do critério de elegibilidade: i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nexist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ência de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azo de permanê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est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ão compartilhada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tre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sferas de gover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Participação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da socieda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Abrangência nacional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, com base em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estimativa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de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fam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ílias pob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Transparência - lista de beneficiários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isponível na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250920" y="907920"/>
            <a:ext cx="8696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PBF - Principais Característic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(continuaçã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CaixaDeTexto 1"/>
          <p:cNvSpPr/>
          <p:nvPr/>
        </p:nvSpPr>
        <p:spPr>
          <a:xfrm>
            <a:off x="250920" y="2133720"/>
            <a:ext cx="8696160" cy="37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Atende famílias com até R$ 140,00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de renda per capita familiar (selecionadas no Cadastro Únic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Benefício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Básico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: famílias extremamente pobres (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R$ 70,00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Benefício Variável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: crianças dos 0 aos 15 anos (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R$32,00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Benefício Variável Vinculado ao Adolescente – BVJ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: 16 a 17 anos (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R$ 38,00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Benefícios para gestantes e nutrizes - BVG e BVN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R$32,00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Benefício para a superação da extrema pobreza - BSP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(valor necessário para que a renda familiar per capita de todas as famílias beneficiárias supere os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R$ 70,00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250920" y="907920"/>
            <a:ext cx="8696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PBF – Informações Gera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02:02:40Z</dcterms:created>
  <dc:creator>Your User Name</dc:creator>
  <dc:description/>
  <dc:language>en-US</dc:language>
  <cp:lastModifiedBy>lara</cp:lastModifiedBy>
  <cp:lastPrinted>2013-10-08T14:08:04Z</cp:lastPrinted>
  <dcterms:modified xsi:type="dcterms:W3CDTF">2013-10-16T17:15:02Z</dcterms:modified>
  <cp:revision>618</cp:revision>
  <dc:subject/>
  <dc:title>Slide 1</dc:title>
</cp:coreProperties>
</file>