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72288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C26-A1E1-4445-8590-EBF27423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A28-D8D8-4D8C-86EF-B4B5B191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AE6-2131-4523-B66A-561F0D12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4D0-316B-4630-9376-2A9F7DCE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94B-663D-4F57-A3D3-7521067F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EAE-0344-4542-B4CF-51EEE005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E6D-367B-4C77-9DD4-952413AB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510-8111-474B-B873-1F9A824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F2D-D910-4D88-A7E1-CC4DEFAB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56D-4CC2-46B6-9E77-A41D760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3DC-A644-48B6-B2C6-3F55DC1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27C-5B17-4DEA-A2D1-DFAA1BE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7D7-C545-4354-B8FD-D8DBCFA33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bolsa.familia@mds.gov.br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 Gestão dos Benefícios de Transferência de Renda com Condicionalidades  na perspectiva de fortalecimento do SUAS</a:t>
            </a:r>
            <a:br>
              <a:rPr sz="2800"/>
            </a:br>
            <a:br>
              <a:rPr sz="2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Daniel Ximenes</a:t>
            </a:r>
            <a:br>
              <a:rPr sz="1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Diretor do Departamento de Condicionalidades (SENARC/MDS)</a:t>
            </a:r>
            <a:br>
              <a:rPr sz="1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Palmas, 9/10/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50920" y="907920"/>
            <a:ext cx="869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enefícios So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4200" y="2276640"/>
          <a:ext cx="8229600" cy="3936960"/>
        </p:xfrm>
        <a:graphic>
          <a:graphicData uri="http://schemas.openxmlformats.org/drawingml/2006/table">
            <a:tbl>
              <a:tblPr/>
              <a:tblGrid>
                <a:gridCol w="1128600"/>
                <a:gridCol w="809640"/>
                <a:gridCol w="629136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ás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7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às famílias em situação de extrema pobreza (renda mensal per capita menor ou igual a R$ 70,00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119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às famílias em situação de pobreza e extrema pobreza que tenham gestantes, nutrizes, crianças ou adolescentes de 0 a 15 anos de idade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cinco benefícios por famíli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47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Variável à Gestante (BV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já beneficiárias do PBF que tenham gestantes em sua composi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nove parcelas consecutivas, a contar da data de concessão do benefício, desde que a gestação tenha sido identificada no sistema até o nono mês de gesta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amília precisa ser identificada no Sistema Bolsa Família de Saúde e no Sistema de Condicionalidades (SICON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793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Variável à Nutriz (BV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 tenham crianças com idade entre 0 e 6 meses em sua composi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seis parcelas consecutivas, a contar da data de concessão do benefício, desde que a criança tenha sido identificada no Cadastro Único até o sexto mês de vid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47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nefício Variável Vinculado ao Adolescente (BV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 tenham adolescentes de 16 e 17 anos que estejam frequentando a escola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té dois benefícios por família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dolescente beneficiário do BVJ, ao completar 18 anos, continua recebendo regularmente as parcelas do benefício até dezembro do ano de seu aniversá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343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para Superação da Extrema Pobreza (B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o a C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, mesmo recebendo outros benefícios do Programa, permaneçam em situação de extrema pobrez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BF – Informações Gerais - Dados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ixaDeTexto 1"/>
          <p:cNvSpPr/>
          <p:nvPr/>
        </p:nvSpPr>
        <p:spPr>
          <a:xfrm>
            <a:off x="-15840" y="1916280"/>
            <a:ext cx="914400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Famílias atendidas – set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: 13.841.665               Benefício Médio: R$ 152,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:  137.164           Benefício Médio: R$ 159,6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companhamento de Educação - (6 a 17 anos)/ jun-jul/13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 - 86,1% -  15,2 milh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 – 89,4% - 166.785 m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companhamento de Saúde - famílias/ jan-jun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 - 73,6% - 8,4 milh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– 82,74% - 101.140m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O Cadastro Único para Programas So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1"/>
          <p:cNvSpPr/>
          <p:nvPr/>
        </p:nvSpPr>
        <p:spPr>
          <a:xfrm>
            <a:off x="468360" y="2133720"/>
            <a:ext cx="83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nhecer para incl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u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strumento de identificação e caracterização socioeconômic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s famílias brasileiras de baixa ren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nda mensal igual ou inferior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 ½ salário mínim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r pessoa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339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nda familiar mensal de até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rês salários míni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ílias com renda maior podem ser cadastrad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 a inclusão estiver vinculada à seleção de programas sociais implementados em nível federal, estadual ou municip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O Cadastro Único para Programas Sociai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ixaDeTexto 1"/>
          <p:cNvSpPr/>
          <p:nvPr/>
        </p:nvSpPr>
        <p:spPr>
          <a:xfrm>
            <a:off x="468360" y="2133720"/>
            <a:ext cx="83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nhecer para incl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ve ser obrigatoriamente utilizado par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leção  de beneficiários e integração de programas soci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 Governo Federal voltados ao atendimento desse públic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leção dos beneficiár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realizada de for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utomatizad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considera os requisitos e prioridades previstos em le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Gestão do PBF e Cadastro Único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1"/>
          <p:cNvSpPr/>
          <p:nvPr/>
        </p:nvSpPr>
        <p:spPr>
          <a:xfrm>
            <a:off x="250920" y="2136600"/>
            <a:ext cx="87138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rranjo de gestão descentralizada e compartilh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Federal (Senarc/MD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: responsável pelas diretrizes, regulamentos, estratégias mais amplas de atu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ad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tação de apoio estratégico e técnico aos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unicípi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ção direta na implement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dastro Únic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realizando busca ativa, cadastramento, gestão de benefícios e outras informações, zelando pela qualidade dos d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Gestão do PBF e Cadastro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ixaDeTexto 1"/>
          <p:cNvSpPr/>
          <p:nvPr/>
        </p:nvSpPr>
        <p:spPr>
          <a:xfrm>
            <a:off x="250920" y="2136600"/>
            <a:ext cx="87138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rranjo de gestão descentralizada e compartilh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setorialidad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saúde e educação, políticas de promoção (direitos humanos, grupos populacionais tradicionais e específicos), mais recentemente outras áreas como trabalho e emprego, previdência, meio ambiente, integração nacional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ixa Econômica Feder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gente operador do PBF e do Cadastro Único. Responsável pelos sistemas, pelo treinamento de operadores e atendimento a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Índice de Gestão Descentralizada – IGD/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aixaDeTexto 1"/>
          <p:cNvSpPr/>
          <p:nvPr/>
        </p:nvSpPr>
        <p:spPr>
          <a:xfrm>
            <a:off x="250920" y="2133720"/>
            <a:ext cx="85788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poio financeiro para a gestão dos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Índice de Gestão Descentralizada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stra a qualidade da gestão descentralizada do PBF, além de refletir os compromissos assumidos pelos estados e municípios na sua adesão ao Programa, como a gestão do Cadastro Único e das condicionalidades. O índice varia entre zero e 1. Quanto mais próximo de 1, melhor a avaliação da gestão desses proces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Índice de Gestão Descentralizada – IGD/PBF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1"/>
          <p:cNvSpPr/>
          <p:nvPr/>
        </p:nvSpPr>
        <p:spPr>
          <a:xfrm>
            <a:off x="250920" y="2133720"/>
            <a:ext cx="85788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poio financeiro para a gestão dos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mponentes princip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Cadastro: taxa de cobertura e taxa de atual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Condicionalidades: acompanhamento de saúde e de educ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Há outros fatores que contam no cálculo e alguns impeditivos do recebimento dos recur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base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GD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o Governo Federal repassa mensalmente recursos aos municípios, estados e DF para execução de suas a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1"/>
          <p:cNvSpPr/>
          <p:nvPr/>
        </p:nvSpPr>
        <p:spPr>
          <a:xfrm>
            <a:off x="179280" y="2133720"/>
            <a:ext cx="8713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ortalecimento do Cadastro Únic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ferramenta de identificação de público-alvo das ações do B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ratégia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usca Ativ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foram incluídas no Cadastro Único cerca de 1 milhão de famílias extremamente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umento de benefícios variáve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família: aumentou-se de 3 para 5 benefícios variáveis em uma família, o que levou à concessão de cerca de 1,3 milhão de novos benefíc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ixaDeTexto 1"/>
          <p:cNvSpPr/>
          <p:nvPr/>
        </p:nvSpPr>
        <p:spPr>
          <a:xfrm>
            <a:off x="179280" y="2133720"/>
            <a:ext cx="8713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plement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torno Garantid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 incentivo às famílias que não necessitem mais do benefício a solicitar o Desligamento Voluntário.  As famílias que se desligarem voluntariamente e voltarem a necessitar novamente do benefício do PBF tê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arantido o direito de retornar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ediatamente ao Programa no prazo de 36 meses a partir do deslig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93 mil famílias em todo o país (1,4 mil em Tocant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50920" y="2133720"/>
            <a:ext cx="8642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junt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s públic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garante o cumprimento dos direitos sociais constantes da Constituição, assegurando a todo brasileiro ou brasileira o livre acesso a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rviç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gram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jet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m que se tenha que pagar por el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Bolsa Família é um programa, co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face com diferentes políticas públic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 A dimensão da transferência de renda, embora seja o componente mais visível, não deve ser concebido como um fim em si.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ferência de rend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é u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rticul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u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njunto de polític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que permitam o enfrentamento consequente da pobreza e da desigual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250920" y="7650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oteção Social não contributiva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ixaDeTexto 1"/>
          <p:cNvSpPr/>
          <p:nvPr/>
        </p:nvSpPr>
        <p:spPr>
          <a:xfrm>
            <a:off x="614520" y="2133720"/>
            <a:ext cx="8245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visão da estimativa de pobreza 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xpansão da quantidade de famílias atendida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elo Programa: aumento d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12,9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ara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13,8</a:t>
            </a:r>
            <a:r>
              <a:rPr b="0" lang="pt-BR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ilhões de famílias estimadas como público do PB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ajuste no valor dos benefícios 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umento no valor do benefício méd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ixaDeTexto 1"/>
          <p:cNvSpPr/>
          <p:nvPr/>
        </p:nvSpPr>
        <p:spPr>
          <a:xfrm>
            <a:off x="614520" y="2133720"/>
            <a:ext cx="824544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mpliação, em 82%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recursos repassados aos municípios e estados, conforme seu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Índice de Gestão Descentralizada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(IGD). Hoje, são destinado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$ 560 milhõe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uais para apoio à gestão descentraliz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84600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ixaDeTexto 1"/>
          <p:cNvSpPr/>
          <p:nvPr/>
        </p:nvSpPr>
        <p:spPr>
          <a:xfrm>
            <a:off x="250920" y="2133720"/>
            <a:ext cx="85899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 de Superação da Extrem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com foco na erradicação da extrema pobreza em famílias que, mesmo após o recebimento dos demais benefícios, se mantenham abaixo da linha de extrema pobreza  - seu valor equivale ao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necessári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ra superar os R$ 70 por pess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imoramento do acompanhamento de condicionalidades e ampliação da importância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companhamento das famíli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situação de descumprimento pelos serviços socioassistenci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rticulação com o Mais Educ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o sentido de priorizar a implantação da educação integral em escolas onde a maioria dos alunos é beneficiária do PB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incipais resulta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ixaDeTexto 1"/>
          <p:cNvSpPr/>
          <p:nvPr/>
        </p:nvSpPr>
        <p:spPr>
          <a:xfrm>
            <a:off x="600120" y="2127240"/>
            <a:ext cx="819144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Diferentes pesquisas mostram que o Brasil está reduzindo a pobreza e a desigual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é um dos principais responsáveis pel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dução d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, em especial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da extrem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ferentes pesquisas estimam que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xtrema pobreza seria um terço maior não fosse o 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 Dependendo do período considerado, o Programa colabora em torno de 16% e 20% para a queda significativa da desigualdade de rendimentos ocorrida nos últimos 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usta menos que 0,5% do PI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1"/>
          <p:cNvSpPr/>
          <p:nvPr/>
        </p:nvSpPr>
        <p:spPr>
          <a:xfrm>
            <a:off x="250920" y="2133720"/>
            <a:ext cx="8642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vão além do 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ultados recentes d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unda rodada da Avaliação de Impacto do 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realizada co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1 mil famílias beneficiárias e não beneficiár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abre espaço para a discussão de outros benefícios que o Programa tra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elhor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nos cuidados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é-nat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eitamento matern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acinação das crianç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s taxas de aprovação escolar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oder de decisão das mulheres — seja na compra de bens duráveis, seja na utilização de métodos de contracep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1"/>
          <p:cNvSpPr/>
          <p:nvPr/>
        </p:nvSpPr>
        <p:spPr>
          <a:xfrm>
            <a:off x="250920" y="2133720"/>
            <a:ext cx="864216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vão além do 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dução do trabalho infanti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stergando a entrada dos jovens no mercado de trabal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Progra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ão gera "acomodação" dos beneficiários adult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is sua participação no mercado de trabalho ocorre em níveis semelhantes aos dos não benefi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1"/>
          <p:cNvSpPr/>
          <p:nvPr/>
        </p:nvSpPr>
        <p:spPr>
          <a:xfrm>
            <a:off x="250920" y="2133720"/>
            <a:ext cx="86421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evidenciam o reforço do acesso aos serviços sociais básicos por meio do acompanhamento das condicional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saúde –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a mortalidade infantil em 19,4% (The Lancet, 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edu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forço da agenda educacional – 2012 (Educacenso e Presenç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nsino Fundament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 beneficiários PBF – 85,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mais Rede Pública – 89,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 beneficiários PBF – 2,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mais Rede Pública – 3,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1"/>
          <p:cNvSpPr/>
          <p:nvPr/>
        </p:nvSpPr>
        <p:spPr>
          <a:xfrm>
            <a:off x="250920" y="2133720"/>
            <a:ext cx="864216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evidenciam o reforço do acesso aos serviços sociais básicos por meio do acompanhamento das condicionalidades 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edu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forço da agenda educacional -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nsino Médi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 beneficiários PBF – 79,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mais Rede Pública – 75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 beneficiários PBF – 7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mais Rede Pública – 11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425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BF e Cadastro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aixaDeTexto 1"/>
          <p:cNvSpPr/>
          <p:nvPr/>
        </p:nvSpPr>
        <p:spPr>
          <a:xfrm>
            <a:off x="395280" y="1413000"/>
            <a:ext cx="86425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visão Cadastral de cerca de 1,5 milhões de famílias beneficiárias, até 13 de dezembro. Em Tocant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ara facilitar a mobilização das famílias para esta atividade, a partir deste ano o MDS lhes envia cartas, informando-as sobre a necessidade e o prazo da revisão cadast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92360" y="2492280"/>
          <a:ext cx="5560920" cy="2998800"/>
        </p:xfrm>
        <a:graphic>
          <a:graphicData uri="http://schemas.openxmlformats.org/drawingml/2006/table">
            <a:tbl>
              <a:tblPr/>
              <a:tblGrid>
                <a:gridCol w="2714400"/>
                <a:gridCol w="2805120"/>
                <a:gridCol w="41400"/>
              </a:tblGrid>
              <a:tr h="21348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F e 10 municíp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ílias da Revisão Cadastral 2013 que permanecem com os dados desatualizados em 24/08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      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L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AGUA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RU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ISO DO 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                           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IA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O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MPOS LI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AGUA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TE ALTA DO BOM JE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84600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ixaDeTexto 1"/>
          <p:cNvSpPr/>
          <p:nvPr/>
        </p:nvSpPr>
        <p:spPr>
          <a:xfrm>
            <a:off x="179280" y="2133720"/>
            <a:ext cx="871380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 de capacit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articulando também a formação para cadastramento e para a gestão do Cadastro Único e Bolsa Família no âmbit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pacitaSu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cutir a definiçã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quipes de referênc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 Cadastro Único e Bolsa Família, a fim de gerar complementariedade e fortalecimento no âmbito do SU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tencializar uso d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cursos do IG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3640" y="2133360"/>
            <a:ext cx="85690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desenho do Bolsa Família faz com que ele materialize vários princípios e objetivos que são muito valiosos para a Assistência Soci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ersetori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teção social à famíl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rança de ren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ão descentraliza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social; 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rticipação so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50920" y="907920"/>
            <a:ext cx="86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ssistência Social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6835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ixaDeTexto 1"/>
          <p:cNvSpPr/>
          <p:nvPr/>
        </p:nvSpPr>
        <p:spPr>
          <a:xfrm>
            <a:off x="250920" y="2125800"/>
            <a:ext cx="8582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e aprimorar o acompanhamento  familiar com vistas a reduzir as exclusões do PBF motivadas pelo descumprimento das condicion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3716280"/>
          <a:ext cx="8785080" cy="18097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400"/>
                <a:gridCol w="1465560"/>
                <a:gridCol w="1463400"/>
              </a:tblGrid>
              <a:tr h="37152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HO/ AGOSTO D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TEMBRO/ OUTUBRO D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em Fase de Susp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com registro de acompanhamento no S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em Fase de Susp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com registro de acompanhamento no S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6835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1"/>
          <p:cNvSpPr/>
          <p:nvPr/>
        </p:nvSpPr>
        <p:spPr>
          <a:xfrm>
            <a:off x="179280" y="1916280"/>
            <a:ext cx="868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o número de alunos do Bolsa Família com acesso à educação integral, por meio do Mais Educa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mpliar a utilização do Cadastro Único para o planejamento de políticas públicas de diversas áreas de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3429000"/>
          <a:ext cx="8540640" cy="1655640"/>
        </p:xfrm>
        <a:graphic>
          <a:graphicData uri="http://schemas.openxmlformats.org/drawingml/2006/table">
            <a:tbl>
              <a:tblPr/>
              <a:tblGrid>
                <a:gridCol w="1253880"/>
                <a:gridCol w="951120"/>
                <a:gridCol w="949320"/>
                <a:gridCol w="950760"/>
                <a:gridCol w="951120"/>
                <a:gridCol w="949320"/>
                <a:gridCol w="950760"/>
                <a:gridCol w="950760"/>
                <a:gridCol w="633600"/>
              </a:tblGrid>
              <a:tr h="374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RITÓ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es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ia 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M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es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ia 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M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rticulação PBF e SUAS: ferramentas de apoio à gestão integ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2133720"/>
            <a:ext cx="8713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ECAD - Consulta, Seleção e Extração de Informações do CadÚnico: p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rmite aos gestores municipais, estaduais, técnicos do MDS e pesquisadores gerar informações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tualizad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s famílias de baixa renda que estão inscritas no CadÚnico de forma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hecer a realidade socioeconômica dessas famílias, trazendo informações com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odo o núcleo famili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racterísticas do domicíl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rmas de acesso a serviços públicos essenciais; 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de cada um dos componentes da famí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831960"/>
            <a:ext cx="86421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rticulação PBF e SUAS: ferramentas de apoio à gestão integ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8920" y="2149560"/>
            <a:ext cx="875052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ICON - Sistema de Condicionalidades do Programa Bolsa Famíli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permite a gestores e técnicos responsáveis pelo acompanhamento das condicionalidades nos estados e municípios executar ações com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ltar famílias com descumprimentos das condicionalidad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rar e alterar recurso para o descumprimento quando ocorrerem erros, falhas ou problemas que ocasionem repercussão indev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erir ou indeferir um recurso cadast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rar informações sobre o acompanhamento das famílias que tiveram descumprimento de condicionalidad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ltar famílias em acompanhamento familiar por C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ixaDeTexto 1"/>
          <p:cNvSpPr/>
          <p:nvPr/>
        </p:nvSpPr>
        <p:spPr>
          <a:xfrm>
            <a:off x="863640" y="105264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olsa.familia@mds.gov.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Arial"/>
              </a:rPr>
              <a:t>0800.70720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Arial"/>
              </a:rPr>
              <a:t>www.mds.gov.br/bolsafamilia/faleconos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m 1" descr=""/>
          <p:cNvPicPr/>
          <p:nvPr/>
        </p:nvPicPr>
        <p:blipFill>
          <a:blip r:embed="rId2"/>
          <a:stretch/>
        </p:blipFill>
        <p:spPr>
          <a:xfrm>
            <a:off x="395280" y="4862520"/>
            <a:ext cx="1944720" cy="750960"/>
          </a:xfrm>
          <a:prstGeom prst="rect">
            <a:avLst/>
          </a:prstGeom>
          <a:ln w="0">
            <a:noFill/>
          </a:ln>
        </p:spPr>
      </p:pic>
      <p:pic>
        <p:nvPicPr>
          <p:cNvPr id="157" name="Imagem 2" descr=""/>
          <p:cNvPicPr/>
          <p:nvPr/>
        </p:nvPicPr>
        <p:blipFill>
          <a:blip r:embed="rId3"/>
          <a:stretch/>
        </p:blipFill>
        <p:spPr>
          <a:xfrm>
            <a:off x="2411280" y="4797360"/>
            <a:ext cx="4176720" cy="1025640"/>
          </a:xfrm>
          <a:prstGeom prst="rect">
            <a:avLst/>
          </a:prstGeom>
          <a:ln w="0">
            <a:noFill/>
          </a:ln>
        </p:spPr>
      </p:pic>
      <p:pic>
        <p:nvPicPr>
          <p:cNvPr id="158" name="Imagem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6708600" y="4797360"/>
            <a:ext cx="21672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ssistência Social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2565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rticulação d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rviços de proteção social básica e especial às ações de transferência de ren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dencia uma integração que fortalece ambas as aç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emplo: o não cumprimento das condicionalidades pode indicar uma situação de risco, ou seja, estas famílias necessitam de um acompanhamento dos serviços prestados pela proteção básica e/ou espe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ítulo 1"/>
          <p:cNvSpPr/>
          <p:nvPr/>
        </p:nvSpPr>
        <p:spPr>
          <a:xfrm>
            <a:off x="250920" y="836640"/>
            <a:ext cx="86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ograma Bolsa Famí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"/>
          <p:cNvSpPr/>
          <p:nvPr/>
        </p:nvSpPr>
        <p:spPr>
          <a:xfrm>
            <a:off x="1258920" y="2205000"/>
            <a:ext cx="2160720" cy="1511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147680" y="2349360"/>
            <a:ext cx="238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anferência condicionada de r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7"/>
          <p:cNvSpPr/>
          <p:nvPr/>
        </p:nvSpPr>
        <p:spPr>
          <a:xfrm>
            <a:off x="5508720" y="2205000"/>
            <a:ext cx="2592360" cy="1511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ítulo 1"/>
          <p:cNvSpPr/>
          <p:nvPr/>
        </p:nvSpPr>
        <p:spPr>
          <a:xfrm>
            <a:off x="5611680" y="2349360"/>
            <a:ext cx="238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Focal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dicion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e livre util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ta para a direita 3"/>
          <p:cNvSpPr/>
          <p:nvPr/>
        </p:nvSpPr>
        <p:spPr>
          <a:xfrm>
            <a:off x="3990960" y="2532240"/>
            <a:ext cx="1035000" cy="6904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de cantos arredondados 9"/>
          <p:cNvSpPr/>
          <p:nvPr/>
        </p:nvSpPr>
        <p:spPr>
          <a:xfrm>
            <a:off x="1258920" y="4078440"/>
            <a:ext cx="6842160" cy="172692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ítulo 1"/>
          <p:cNvSpPr/>
          <p:nvPr/>
        </p:nvSpPr>
        <p:spPr>
          <a:xfrm>
            <a:off x="1476360" y="4302000"/>
            <a:ext cx="6437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Ruptura do ciclo intergeracional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esenvolvimento das famími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ta para a direita 12"/>
          <p:cNvSpPr/>
          <p:nvPr/>
        </p:nvSpPr>
        <p:spPr>
          <a:xfrm rot="5400000">
            <a:off x="4127400" y="335736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96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1"/>
          <p:cNvSpPr/>
          <p:nvPr/>
        </p:nvSpPr>
        <p:spPr>
          <a:xfrm>
            <a:off x="250920" y="2154240"/>
            <a:ext cx="8696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grama Bolsa Famíli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 com foco e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ês aspectos principai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ívio imediato d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r mei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a transferência direta de renda às famí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mpliação do acesso a serviços públic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representam direitos básicos nas áreas de Saúde, Educação e Assistência Social, por meio das condicionalidades, contribuindo para 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mpimento do ciclo intergeracional de reproduçã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ordenação com outras ações e programas dos govern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as três esferas, e da sociedade, de modo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poiar as famílias na superação de vulnerabilidades e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Conteúdo 2"/>
          <p:cNvSpPr/>
          <p:nvPr/>
        </p:nvSpPr>
        <p:spPr>
          <a:xfrm>
            <a:off x="250920" y="2133720"/>
            <a:ext cx="864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tendimento 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e não dos seu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mbros isolad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apartidas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das famílias e do governo na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reas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úde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gamento diret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à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sem intermediação de qualquer natu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ntrega de recursos diretamente à família por intermédio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rtão magné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erencialmente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pago à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l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onom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da família no uso do recurso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Conteúdo 2"/>
          <p:cNvSpPr/>
          <p:nvPr/>
        </p:nvSpPr>
        <p:spPr>
          <a:xfrm>
            <a:off x="250920" y="2133720"/>
            <a:ext cx="8696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endiment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ílias pobr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xtremamente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fam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lia continua no Programa enquanto tiver renda abaixo do critério de elegibilidade: i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exist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ência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zo de perman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st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ão compartilha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r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feras de gove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articip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 socie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brangência nacion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com base e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imativ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lias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parência - lista de beneficiár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ponível n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ixaDeTexto 1"/>
          <p:cNvSpPr/>
          <p:nvPr/>
        </p:nvSpPr>
        <p:spPr>
          <a:xfrm>
            <a:off x="250920" y="2133720"/>
            <a:ext cx="869616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tende famílias com até R$ 14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e renda per capita familiar (selecionadas no Cadastro Ún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ásic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famílias extremamente pobre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7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Variáve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crianças dos 0 aos 15 an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32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Variável Vinculado ao Adolescente – BVJ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16 a 17 an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38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s para gestantes e nutrizes - BVG e BVN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32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para a superação da extrema pobreza - BSP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(valor necessário para que a renda familiar per capita de todas as famílias beneficiárias supere 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7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– Informações Ger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02:40Z</dcterms:created>
  <dc:creator>Your User Name</dc:creator>
  <dc:description/>
  <dc:language>en-US</dc:language>
  <cp:lastModifiedBy>lara</cp:lastModifiedBy>
  <cp:lastPrinted>2013-10-08T14:08:04Z</cp:lastPrinted>
  <dcterms:modified xsi:type="dcterms:W3CDTF">2013-10-16T17:15:02Z</dcterms:modified>
  <cp:revision>618</cp:revision>
  <dc:subject/>
  <dc:title>Slide 1</dc:title>
</cp:coreProperties>
</file>